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8.wmf" ContentType="image/x-wmf"/>
  <Override PartName="/ppt/media/CHIMES.WAV" ContentType="audio/x-wav"/>
  <Override PartName="/ppt/media/image20.wmf" ContentType="image/x-wmf"/>
  <Override PartName="/ppt/media/CAMERA.WAV" ContentType="audio/x-wav"/>
  <Override PartName="/ppt/media/CASHREG.WAV" ContentType="audio/x-wav"/>
  <Override PartName="/ppt/media/image7.wmf" ContentType="image/x-wmf"/>
  <Override PartName="/ppt/media/image5.wmf" ContentType="image/x-wmf"/>
  <Override PartName="/ppt/media/image6.wmf" ContentType="image/x-wmf"/>
  <Override PartName="/ppt/media/image23.wmf" ContentType="image/x-wmf"/>
  <Override PartName="/ppt/media/image8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media/drumroll.wav" ContentType="audio/x-wav"/>
  <Override PartName="/ppt/media/image27.wmf" ContentType="image/x-wmf"/>
  <Override PartName="/ppt/media/image4.wmf" ContentType="image/x-wmf"/>
  <Override PartName="/ppt/media/image1.gif" ContentType="image/gif"/>
  <Override PartName="/ppt/media/zapbig0g.wav" ContentType="audio/x-wav"/>
  <Override PartName="/ppt/media/image16.gif" ContentType="image/gif"/>
  <Override PartName="/ppt/media/image12.wmf" ContentType="image/x-wmf"/>
  <Override PartName="/ppt/media/image9.wmf" ContentType="image/x-wmf"/>
  <Override PartName="/ppt/media/image10.wmf" ContentType="image/x-wmf"/>
  <Override PartName="/ppt/media/image11.wmf" ContentType="image/x-wmf"/>
  <Override PartName="/ppt/media/EXPLODE.WAV" ContentType="audio/x-wav"/>
  <Override PartName="/ppt/media/image13.wmf" ContentType="image/x-wmf"/>
  <Override PartName="/ppt/media/image14.wmf" ContentType="image/x-wmf"/>
  <Override PartName="/ppt/media/image24.wmf" ContentType="image/x-wmf"/>
  <Override PartName="/ppt/media/slotwn08.wav" ContentType="audio/x-wav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510-B370-4947-BA9C-072DE534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EE7-E9FB-43DE-9C46-7B995450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F25-8389-466A-8933-CC07ABF2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F5E-083A-45B1-A4BC-2CAE5ED7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934-0D55-4B63-9614-AF1FF1CB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E97-B07B-4DC5-BB3F-DD6F3E7E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543-32CB-40C0-8AE2-9E2B4FC3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BB3-C665-4790-B1AE-A5A288B0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06E-1850-4BE8-A101-4969DC9E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1E1-902D-406F-BD2A-12FFF4FD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ED6-EC02-4AC3-8EC5-34D79AE9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F06-8298-4606-B843-2D7E486F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4281-D8E4-4451-BE63-A2BE4EB35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audio" Target="../media/CHIMES.WAV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drumroll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EXPLODE.WAV"/><Relationship Id="rId16" Type="http://schemas.openxmlformats.org/officeDocument/2006/relationships/audio" Target="../media/EXPLODE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drumroll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EXPLODE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audio" Target="../media/CASHREG.WAV"/><Relationship Id="rId15" Type="http://schemas.openxmlformats.org/officeDocument/2006/relationships/audio" Target="../media/CHIMES.WAV"/><Relationship Id="rId16" Type="http://schemas.openxmlformats.org/officeDocument/2006/relationships/audio" Target="../media/drumroll.wav"/><Relationship Id="rId17" Type="http://schemas.openxmlformats.org/officeDocument/2006/relationships/audio" Target="../media/slotwn08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slotwn08.wav"/><Relationship Id="rId25" Type="http://schemas.openxmlformats.org/officeDocument/2006/relationships/audio" Target="../media/slotwn08.wav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image" Target="../media/image16.gif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slotwn08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10400" y="35244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the Probability of an Ev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808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robability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054080" y="4840200"/>
                <a:ext cx="14684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8" name=""/>
          <p:cNvGraphicFramePr/>
          <p:nvPr/>
        </p:nvGraphicFramePr>
        <p:xfrm>
          <a:off x="2514600" y="4495680"/>
          <a:ext cx="1384200" cy="17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4495680"/>
                    <a:ext cx="1384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2819520" y="1066680"/>
            <a:ext cx="5257800" cy="1054080"/>
            <a:chOff x="2819520" y="1066680"/>
            <a:chExt cx="5257800" cy="1054080"/>
          </a:xfrm>
        </p:grpSpPr>
        <p:sp>
          <p:nvSpPr>
            <p:cNvPr id="51" name=""/>
            <p:cNvSpPr/>
            <p:nvPr/>
          </p:nvSpPr>
          <p:spPr>
            <a:xfrm>
              <a:off x="2819520" y="1066680"/>
              <a:ext cx="49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24080" y="1600200"/>
              <a:ext cx="495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Total number of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95480" y="1600200"/>
              <a:ext cx="4724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1337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Exercises 1 and 2, find the probability of choosing a blue marble from a bag of blue and yellow mar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12408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33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Number of blue marbles:  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Total number of marbles: 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86200" y="4495680"/>
          <a:ext cx="1077840" cy="158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4495680"/>
                    <a:ext cx="107784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048120" y="5410080"/>
          <a:ext cx="769680" cy="61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5410080"/>
                    <a:ext cx="7696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10400" y="35244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63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the Probability of an Ev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808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robability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069920" y="4849920"/>
                <a:ext cx="14684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2514600" y="4495680"/>
          <a:ext cx="1384200" cy="17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4495680"/>
                    <a:ext cx="1384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" name=""/>
          <p:cNvGrpSpPr/>
          <p:nvPr/>
        </p:nvGrpSpPr>
        <p:grpSpPr>
          <a:xfrm>
            <a:off x="2819520" y="1066680"/>
            <a:ext cx="5257800" cy="1054080"/>
            <a:chOff x="2819520" y="1066680"/>
            <a:chExt cx="5257800" cy="1054080"/>
          </a:xfrm>
        </p:grpSpPr>
        <p:sp>
          <p:nvSpPr>
            <p:cNvPr id="70" name=""/>
            <p:cNvSpPr/>
            <p:nvPr/>
          </p:nvSpPr>
          <p:spPr>
            <a:xfrm>
              <a:off x="2819520" y="1066680"/>
              <a:ext cx="49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24080" y="1600200"/>
              <a:ext cx="495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Total number of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5480" y="1600200"/>
              <a:ext cx="4724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21337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Exercises 1 and 2, find the probability of choosing a blue marble from a bag of blue and yellow mar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312408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3399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Number of yellow marbles: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Total number of marbles:   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50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732120" y="4495680"/>
          <a:ext cx="1386000" cy="158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32120" y="4495680"/>
                    <a:ext cx="138600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048120" y="5410080"/>
          <a:ext cx="769680" cy="61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5410080"/>
                    <a:ext cx="7696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81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the Odds of an Ev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0666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dds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33560" y="4316400"/>
                <a:ext cx="1565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85" name=""/>
          <p:cNvGraphicFramePr/>
          <p:nvPr/>
        </p:nvGraphicFramePr>
        <p:xfrm>
          <a:off x="2668680" y="3962520"/>
          <a:ext cx="107640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8680" y="3962520"/>
                    <a:ext cx="107640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2666880" y="1066680"/>
            <a:ext cx="5535720" cy="1054080"/>
            <a:chOff x="2666880" y="1066680"/>
            <a:chExt cx="5535720" cy="1054080"/>
          </a:xfrm>
        </p:grpSpPr>
        <p:sp>
          <p:nvSpPr>
            <p:cNvPr id="88" name=""/>
            <p:cNvSpPr/>
            <p:nvPr/>
          </p:nvSpPr>
          <p:spPr>
            <a:xfrm>
              <a:off x="2819520" y="1066680"/>
              <a:ext cx="53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6880" y="1600200"/>
              <a:ext cx="53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un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1600200"/>
              <a:ext cx="5257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0" y="21337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odds in choosing the indicated letter from a bag that contains the letters in the given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124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339933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A;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029200" y="4419720"/>
          <a:ext cx="12952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419720"/>
                    <a:ext cx="1295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01840" y="4876920"/>
          <a:ext cx="462240" cy="61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1840" y="4876920"/>
                    <a:ext cx="46224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99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the Odds of an Ev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0666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dds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036800" y="4330800"/>
                <a:ext cx="15634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2668680" y="3962520"/>
          <a:ext cx="107640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8680" y="3962520"/>
                    <a:ext cx="107640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2666880" y="1066680"/>
            <a:ext cx="5535720" cy="1054080"/>
            <a:chOff x="2666880" y="1066680"/>
            <a:chExt cx="5535720" cy="1054080"/>
          </a:xfrm>
        </p:grpSpPr>
        <p:sp>
          <p:nvSpPr>
            <p:cNvPr id="106" name=""/>
            <p:cNvSpPr/>
            <p:nvPr/>
          </p:nvSpPr>
          <p:spPr>
            <a:xfrm>
              <a:off x="2819520" y="1066680"/>
              <a:ext cx="53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6880" y="1600200"/>
              <a:ext cx="53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un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1600200"/>
              <a:ext cx="5257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21337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odds in choosing the indicated letter from a bag that contains the letters in the given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124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4.  N; ARG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948200" y="4419720"/>
          <a:ext cx="14572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48200" y="4419720"/>
                    <a:ext cx="1457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174840" y="4876920"/>
          <a:ext cx="513000" cy="61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4840" y="4876920"/>
                    <a:ext cx="5130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117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the Odds of an Ev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0666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dds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41560" y="4343400"/>
                <a:ext cx="1376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2668680" y="3962520"/>
          <a:ext cx="107640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8680" y="3962520"/>
                    <a:ext cx="107640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2666880" y="1066680"/>
            <a:ext cx="5535720" cy="1054080"/>
            <a:chOff x="2666880" y="1066680"/>
            <a:chExt cx="5535720" cy="1054080"/>
          </a:xfrm>
        </p:grpSpPr>
        <p:sp>
          <p:nvSpPr>
            <p:cNvPr id="124" name=""/>
            <p:cNvSpPr/>
            <p:nvPr/>
          </p:nvSpPr>
          <p:spPr>
            <a:xfrm>
              <a:off x="2819520" y="1066680"/>
              <a:ext cx="53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6880" y="1600200"/>
              <a:ext cx="53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un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1600200"/>
              <a:ext cx="5257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0" y="21337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odds in choosing the indicated letter from a bag that contains the letters in the given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124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5.  S;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02200" y="4419720"/>
          <a:ext cx="13492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2200" y="4419720"/>
                    <a:ext cx="1349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174840" y="4876920"/>
          <a:ext cx="513000" cy="61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4840" y="4876920"/>
                    <a:ext cx="5130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43800" y="1600200"/>
            <a:ext cx="1600200" cy="1289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136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Odds from Prob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0666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dds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07880" y="3886200"/>
                <a:ext cx="26082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ve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2971800" y="3505320"/>
          <a:ext cx="2459160" cy="173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505320"/>
                    <a:ext cx="245916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666880" y="1066680"/>
            <a:ext cx="5535720" cy="1054080"/>
            <a:chOff x="2666880" y="1066680"/>
            <a:chExt cx="5535720" cy="1054080"/>
          </a:xfrm>
        </p:grpSpPr>
        <p:sp>
          <p:nvSpPr>
            <p:cNvPr id="143" name=""/>
            <p:cNvSpPr/>
            <p:nvPr/>
          </p:nvSpPr>
          <p:spPr>
            <a:xfrm>
              <a:off x="2819520" y="1066680"/>
              <a:ext cx="53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6633"/>
                  </a:solidFill>
                  <a:latin typeface="Times New Roman"/>
                </a:rPr>
                <a:t>Probability event will occ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6880" y="1600200"/>
              <a:ext cx="53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1 – (Probability event will occur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1600200"/>
              <a:ext cx="5257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0" y="21337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 given probability to find the od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6.  The probability that an event will occur is 0.2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400800" y="5486400"/>
          <a:ext cx="1295280" cy="6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5486400"/>
                    <a:ext cx="1295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505320" y="4419720"/>
          <a:ext cx="1947600" cy="61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19720"/>
                    <a:ext cx="19476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486400" y="3505320"/>
          <a:ext cx="1793880" cy="1579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6400" y="3505320"/>
                    <a:ext cx="179388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438280" y="5029200"/>
          <a:ext cx="1384560" cy="157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38280" y="5029200"/>
                    <a:ext cx="138456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192560" y="5029200"/>
          <a:ext cx="1076400" cy="1579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92560" y="5029200"/>
                    <a:ext cx="107640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160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Odds from Prob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0666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dds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52440" y="3886200"/>
                <a:ext cx="26082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ve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4" name=""/>
          <p:cNvGraphicFramePr/>
          <p:nvPr/>
        </p:nvGraphicFramePr>
        <p:xfrm>
          <a:off x="2971800" y="3505320"/>
          <a:ext cx="245916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505320"/>
                    <a:ext cx="245916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"/>
          <p:cNvGrpSpPr/>
          <p:nvPr/>
        </p:nvGrpSpPr>
        <p:grpSpPr>
          <a:xfrm>
            <a:off x="2666880" y="1066680"/>
            <a:ext cx="5535720" cy="1054080"/>
            <a:chOff x="2666880" y="1066680"/>
            <a:chExt cx="5535720" cy="1054080"/>
          </a:xfrm>
        </p:grpSpPr>
        <p:sp>
          <p:nvSpPr>
            <p:cNvPr id="167" name=""/>
            <p:cNvSpPr/>
            <p:nvPr/>
          </p:nvSpPr>
          <p:spPr>
            <a:xfrm>
              <a:off x="2819520" y="1066680"/>
              <a:ext cx="53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6633"/>
                  </a:solidFill>
                  <a:latin typeface="Times New Roman"/>
                </a:rPr>
                <a:t>Probability event will occ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66880" y="1600200"/>
              <a:ext cx="53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1 – (Probability event will occur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66880" y="1600200"/>
              <a:ext cx="5257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0" y="21337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 given probability to find the od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7.  The probability that an event will occur is 0.5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181480" y="5486400"/>
          <a:ext cx="20512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5486400"/>
                    <a:ext cx="2051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530520" y="4419720"/>
          <a:ext cx="1897200" cy="61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0520" y="4419720"/>
                    <a:ext cx="18972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486400" y="3505320"/>
          <a:ext cx="179388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505320"/>
                    <a:ext cx="179388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819520" y="5029200"/>
          <a:ext cx="1384200" cy="15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5029200"/>
                    <a:ext cx="138420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7543800" y="1600200"/>
            <a:ext cx="16002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12T18:24:09Z</dcterms:modified>
  <cp:revision>121</cp:revision>
  <dc:subject/>
  <dc:title>No Slide Title</dc:title>
</cp:coreProperties>
</file>